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F09-B235-47DD-99ED-E8544BC2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D50-11FC-4253-BC42-1527916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B6F-542F-4787-B22C-27C3D1DC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20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120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305-7092-47CB-B308-0EC6CC5A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D52C-3A6B-4FB9-8C85-2A505A9B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BC2-679E-48B6-9743-59F7191F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7CC4-70E2-4045-8F80-E4B16A17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65D1-AC30-439F-A09D-B623B4DD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D2E-F023-48BD-B671-24CE66C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35164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C991-6028-40C7-8832-BDA22D7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00FE-F181-46BD-8C6D-2E4202A5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91C-FB96-41B0-A605-25161138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D9D9-6F7C-40B8-935E-964C4F6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CC0-EE40-471C-8313-EC7A5C9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887C-678A-43BD-8371-69855BDA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C87A-1E02-4406-B628-5B5D41CA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5384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200" y="11250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5384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1200" y="3736800"/>
            <a:ext cx="1996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C348-A389-4F15-A8C8-41B75425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3A9-CE8C-4325-AA46-C2E90487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988-0A61-4CF1-BA82-6C77CCC0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7CB-7484-4E45-9C54-C48848E8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35164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2C1-77D6-459E-BF85-13EE601A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804-1C5F-4768-A0E4-C45FEC01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34920" y="37368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0AA-CD5E-41DA-A47D-4E69AAED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34920" y="1125000"/>
            <a:ext cx="3026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36800"/>
            <a:ext cx="6202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26F-0D8F-4F4D-ABBC-8446EE6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 algn="just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F5B-88BC-4F83-8001-4353AEB25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DDDA-41FE-4C41-AB7D-0DC6A77E3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7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yugat-Dunántúli Termál- és Gyógyfürdő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529080" cy="274788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3672000" cy="250200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132000" y="3284640"/>
            <a:ext cx="3821400" cy="286524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788000" y="3933720"/>
            <a:ext cx="3460680" cy="2595600"/>
          </a:xfrm>
          <a:prstGeom prst="rect">
            <a:avLst/>
          </a:prstGeom>
          <a:ln w="50760">
            <a:solidFill>
              <a:srgbClr val="ff6600"/>
            </a:solidFill>
            <a:miter/>
          </a:ln>
        </p:spPr>
      </p:pic>
    </p:spTree>
  </p:cSld>
  <p:transition spd="slow" advTm="10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Kehidakustány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Zala-völgyében található a Kehida Termál gyógyfürdő.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Kehida-kustá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arázslatos tájával és 43°C-os termálvizével évek óta a turisták, pihenni és gyógyulni vágyók második ottho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4 hektáron elterülő strand-fürdőben 6 medence üzemel. A medencék vize különböző hőfokú. A legkisebbeket gyermekpancsoló várja, a felnőttek feszített víztükrű hideg vizes vagy 27°C-os termál-vizű úszómedencében úszhat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04000" y="4624560"/>
            <a:ext cx="1979640" cy="14871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2909880"/>
            <a:ext cx="1979640" cy="14828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04000" y="1144440"/>
            <a:ext cx="1979640" cy="15145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Bükfürdő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ükfürdő a század második felében fejlődött Magyarország egyik legszí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nalasabb, és legkedveltebb fürdő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yévé. A gyógyulni vágyók különféle gyógyászati lehetőségek közt válogatha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k, a nyugodt üdülést kereső vendégek varázslatos környezetben békés napokat tölthetne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t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ktív pihenés kedvelőit óriás csúszda, élményfürdő, feszített víztükrű úszóm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cék várják. A parkban további sportolási lehetőségek vannak, s ezt a skálát tovább színezik az aktuális sportrendezvények, versenyek, egés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égprogra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05440" y="1154160"/>
            <a:ext cx="1979640" cy="15001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05440" y="2903400"/>
            <a:ext cx="1979640" cy="14925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05440" y="4627440"/>
            <a:ext cx="1979640" cy="148428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Sárvár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árvá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gfontosabb vonzereje kétségtelenül az itt található kétféle gyógyvíz, amely megalapozta a ma látható fejlődést. Sárvár környékén 1200 méteres mélységből 43°C-os, 2000 méterről magas sótartalmú 83°C-os gyógyvíz tör f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válóan alkalmas mozgásszervi megbetegedések gyógykezelésére, rehabilitációs betegségek, sportsé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ülések utókezelésére, neurológiai panaszokra, izomlazító fürdés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89600" y="1139760"/>
            <a:ext cx="1979640" cy="14907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89600" y="2900520"/>
            <a:ext cx="1979640" cy="14904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789600" y="4637160"/>
            <a:ext cx="1979640" cy="14810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765360"/>
          </a:xfrm>
          <a:prstGeom prst="rect">
            <a:avLst/>
          </a:prstGeom>
          <a:solidFill>
            <a:srgbClr val="ff993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9933"/>
                </a:solidFill>
                <a:latin typeface="Arial"/>
              </a:rPr>
              <a:t>Zalakaro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202440" cy="500076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zalakarosi gyógyvíz Európában is egyedülálló nátriumkloridos és hidrogén-karbonátos hévíz, amely a jodid- és bromid-ion tartalma következtében a jódos-brómos; szulfid-ion tartalma miatt pedig a kénes gyógyvizek csoportjába sorolhat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ész évben nyitva tartó fedett fürdőben különböző vízhőmérsékletű gyógyvizes ülőmedencék, egy felülről nyitott termálmedence, és szauna-blokk található. Az élményfürdő a felüdülni vágyók minden igényét kielégíti. Fedett csarnoka egy élménymedencével, egy gyermekmedencével és egy többcélú medencével várja a pihenni vágyók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04000" y="1139760"/>
            <a:ext cx="1979640" cy="14907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04000" y="2905200"/>
            <a:ext cx="1979640" cy="15015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804000" y="4676760"/>
            <a:ext cx="1979640" cy="14400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ransition spd="slow" advTm="30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2328840" cy="388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82128" t="0" r="0" b="0"/>
          <a:stretch/>
        </p:blipFill>
        <p:spPr>
          <a:xfrm>
            <a:off x="7510320" y="0"/>
            <a:ext cx="1633680" cy="6696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11640" y="0"/>
            <a:ext cx="3960720" cy="3097080"/>
          </a:xfrm>
          <a:prstGeom prst="cloudCallout">
            <a:avLst>
              <a:gd name="adj1" fmla="val -61782"/>
              <a:gd name="adj2" fmla="val 38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Hova menjek nyaral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áj minden porciká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0641800">
            <a:off x="468360" y="475920"/>
            <a:ext cx="2627280" cy="2154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2781360"/>
            <a:ext cx="3022920" cy="367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27640" y="216000"/>
            <a:ext cx="3960720" cy="2133360"/>
          </a:xfrm>
          <a:prstGeom prst="cloudCallout">
            <a:avLst>
              <a:gd name="adj1" fmla="val -61782"/>
              <a:gd name="adj2" fmla="val 7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ár indulok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44444E-006 3.70953E-006 L 0.72326 0.00023 E">
                                      <p:cBhvr>
                                        <p:cTn id="5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9:30:32Z</dcterms:created>
  <dc:creator>Ndrew</dc:creator>
  <dc:description/>
  <dc:language>en-US</dc:language>
  <cp:lastModifiedBy>Ndrew</cp:lastModifiedBy>
  <dcterms:modified xsi:type="dcterms:W3CDTF">2007-03-21T08:36:29Z</dcterms:modified>
  <cp:revision>52</cp:revision>
  <dc:subject/>
  <dc:title>Nyugat-Dunántúli Termál- és Gyógyfürdők</dc:title>
</cp:coreProperties>
</file>