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EB2C-D0A0-4761-A0F5-0D4D2FB79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25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8400" y="3964320"/>
            <a:ext cx="825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B51F-AB73-492C-8A92-7561F869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02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200" y="1600200"/>
            <a:ext cx="402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02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200" y="3964320"/>
            <a:ext cx="402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B082-543D-489C-88EB-D37BE7537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265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0560" y="1600200"/>
            <a:ext cx="265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3080" y="1600200"/>
            <a:ext cx="265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400" y="3964320"/>
            <a:ext cx="265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0560" y="3964320"/>
            <a:ext cx="265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3080" y="3964320"/>
            <a:ext cx="265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EF50-F0D4-4DC5-B1B8-7520BA529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28400" y="1600200"/>
            <a:ext cx="8258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E016-A86B-44DD-8DA1-47042569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258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7601-ED3F-47B9-905C-B04ED380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029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200" y="1600200"/>
            <a:ext cx="4029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8A62-2A42-4A1E-9283-58F5BF33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0937-74A1-4480-90FE-AD150680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CB97-1D35-4C9E-A809-859FF4E8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02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200" y="1600200"/>
            <a:ext cx="4029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402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8819-29C5-4AA1-A38F-934A0280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029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200" y="1600200"/>
            <a:ext cx="402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200" y="3964320"/>
            <a:ext cx="402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58E8-F07D-4BD9-9643-6BF7D0AE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402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200" y="1600200"/>
            <a:ext cx="402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28400" y="3964320"/>
            <a:ext cx="825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CE5A-5788-4324-A83D-9669EC49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8400" y="1600200"/>
            <a:ext cx="8258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23FC-D307-4962-AE7E-3F109E8D9807}" type="datetime">
              <a:rPr b="0" lang="hu-HU" sz="1200" spc="-1" strike="noStrike">
                <a:solidFill>
                  <a:srgbClr val="898989"/>
                </a:solidFill>
                <a:latin typeface="Calibri"/>
              </a:rPr>
              <a:t>26.07.30.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Digitális jövő kiállítás és szakmai fó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12E2-E850-42FE-808C-8C1CF2F28BE2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églalap 6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Neumann János Számítógép-tudományi Társaság – www.njszt.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ffff"/>
                </a:solidFill>
                <a:latin typeface="Calibri"/>
              </a:rPr>
              <a:t>Neumann János Számítógép-tudományi Társaság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98989"/>
                </a:solidFill>
                <a:latin typeface="Calibri"/>
              </a:rPr>
              <a:t>Tevékenységeink dióhéjba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advTm="10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ffff"/>
                </a:solidFill>
                <a:latin typeface="Calibri"/>
              </a:rPr>
              <a:t>Legfontosabb tevékenységek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357360" y="1571760"/>
            <a:ext cx="578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fffff"/>
                </a:solidFill>
                <a:latin typeface="Calibri"/>
              </a:rPr>
              <a:t>Az ECDL magyarországi jogtulajdonosa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fffff"/>
                </a:solidFill>
                <a:latin typeface="Calibri"/>
              </a:rPr>
              <a:t>Vezető szerep a Digitális Esélyegyenlőség megteremtésébe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fffff"/>
                </a:solidFill>
                <a:latin typeface="Calibri"/>
              </a:rPr>
              <a:t>Tehetséggondozá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fffff"/>
                </a:solidFill>
                <a:latin typeface="Calibri"/>
              </a:rPr>
              <a:t>Rendezvényszervezé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fffff"/>
                </a:solidFill>
                <a:latin typeface="Calibri"/>
              </a:rPr>
              <a:t>A magyarországi informatika-történet  gondozása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Élőláb hely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Digitális jövő kiállítás és szakmai fó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Dia számának hely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B072-801B-465C-A202-6065F71BC0C3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Kép 5" descr="ecdl.png"/>
          <p:cNvPicPr/>
          <p:nvPr/>
        </p:nvPicPr>
        <p:blipFill>
          <a:blip r:embed="rId1"/>
          <a:stretch/>
        </p:blipFill>
        <p:spPr>
          <a:xfrm>
            <a:off x="357120" y="1143000"/>
            <a:ext cx="3294000" cy="1714680"/>
          </a:xfrm>
          <a:prstGeom prst="rect">
            <a:avLst/>
          </a:prstGeom>
          <a:ln w="0">
            <a:noFill/>
          </a:ln>
        </p:spPr>
      </p:pic>
      <p:pic>
        <p:nvPicPr>
          <p:cNvPr id="49" name="Kép 6" descr="digitalis_eselyegyenloseg.png"/>
          <p:cNvPicPr/>
          <p:nvPr/>
        </p:nvPicPr>
        <p:blipFill>
          <a:blip r:embed="rId2"/>
          <a:stretch/>
        </p:blipFill>
        <p:spPr>
          <a:xfrm>
            <a:off x="1928880" y="2571840"/>
            <a:ext cx="1214280" cy="1158840"/>
          </a:xfrm>
          <a:prstGeom prst="rect">
            <a:avLst/>
          </a:prstGeom>
          <a:ln w="0">
            <a:noFill/>
          </a:ln>
        </p:spPr>
      </p:pic>
      <p:pic>
        <p:nvPicPr>
          <p:cNvPr id="50" name="Kép 7" descr="tehetseggondozas.png"/>
          <p:cNvPicPr/>
          <p:nvPr/>
        </p:nvPicPr>
        <p:blipFill>
          <a:blip r:embed="rId3"/>
          <a:stretch/>
        </p:blipFill>
        <p:spPr>
          <a:xfrm>
            <a:off x="1785960" y="4214880"/>
            <a:ext cx="1571760" cy="109836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ffff"/>
                </a:solidFill>
                <a:latin typeface="Calibri"/>
              </a:rPr>
              <a:t>Nemzetközi szakmai kapcsolatok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43120" y="3117600"/>
            <a:ext cx="4038480" cy="28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alibri"/>
              </a:rPr>
              <a:t>IOI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alibri"/>
              </a:rPr>
              <a:t>EM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alibri"/>
              </a:rPr>
              <a:t>CEOI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alibri"/>
              </a:rPr>
              <a:t>HIT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alibri"/>
              </a:rPr>
              <a:t>IT STA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alibri"/>
              </a:rPr>
              <a:t>AALIAN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643360" y="3071880"/>
            <a:ext cx="3252600" cy="28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  <a:ea typeface="Arial"/>
              </a:rPr>
              <a:t>IFIP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  <a:ea typeface="Arial"/>
              </a:rPr>
              <a:t>EFMI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  <a:ea typeface="Arial"/>
              </a:rPr>
              <a:t>ECCAI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  <a:ea typeface="Arial"/>
              </a:rPr>
              <a:t>CEPI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  <a:ea typeface="Arial"/>
              </a:rPr>
              <a:t>IEEE C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  <a:ea typeface="Arial"/>
              </a:rPr>
              <a:t>ECDL Found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Élőláb hely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Digitális jövő kiállítás és szakmai fó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ia számának hely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72F1-EAF3-4FF5-8C32-E9EC82A5ADEC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Kép 6" descr="njszt_logo.jpg"/>
          <p:cNvPicPr/>
          <p:nvPr/>
        </p:nvPicPr>
        <p:blipFill>
          <a:blip r:embed="rId1"/>
          <a:stretch/>
        </p:blipFill>
        <p:spPr>
          <a:xfrm>
            <a:off x="3571920" y="1500120"/>
            <a:ext cx="928800" cy="928800"/>
          </a:xfrm>
          <a:prstGeom prst="rect">
            <a:avLst/>
          </a:prstGeom>
          <a:ln w="0">
            <a:noFill/>
          </a:ln>
        </p:spPr>
      </p:pic>
      <p:grpSp>
        <p:nvGrpSpPr>
          <p:cNvPr id="57" name="Csoportba foglalás 80"/>
          <p:cNvGrpSpPr/>
          <p:nvPr/>
        </p:nvGrpSpPr>
        <p:grpSpPr>
          <a:xfrm>
            <a:off x="1428120" y="2428560"/>
            <a:ext cx="4214880" cy="3000960"/>
            <a:chOff x="1428120" y="2428560"/>
            <a:chExt cx="4214880" cy="3000960"/>
          </a:xfrm>
        </p:grpSpPr>
        <p:cxnSp>
          <p:nvCxnSpPr>
            <p:cNvPr id="58" name="Egyenes összekötő nyíllal 8"/>
            <p:cNvCxnSpPr/>
            <p:nvPr/>
          </p:nvCxnSpPr>
          <p:spPr>
            <a:xfrm flipH="1">
              <a:off x="1428120" y="2428560"/>
              <a:ext cx="2607480" cy="85788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59" name="Egyenes összekötő nyíllal 10"/>
            <p:cNvCxnSpPr/>
            <p:nvPr/>
          </p:nvCxnSpPr>
          <p:spPr>
            <a:xfrm flipH="1">
              <a:off x="1713600" y="2428920"/>
              <a:ext cx="2321640" cy="13579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60" name="Egyenes összekötő nyíllal 13"/>
            <p:cNvCxnSpPr/>
            <p:nvPr/>
          </p:nvCxnSpPr>
          <p:spPr>
            <a:xfrm flipH="1">
              <a:off x="1713600" y="2428920"/>
              <a:ext cx="2321640" cy="171504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61" name="Egyenes összekötő nyíllal 16"/>
            <p:cNvCxnSpPr/>
            <p:nvPr/>
          </p:nvCxnSpPr>
          <p:spPr>
            <a:xfrm flipH="1">
              <a:off x="1785240" y="2428560"/>
              <a:ext cx="2250360" cy="214380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62" name="Egyenes összekötő nyíllal 18"/>
            <p:cNvCxnSpPr/>
            <p:nvPr/>
          </p:nvCxnSpPr>
          <p:spPr>
            <a:xfrm flipH="1">
              <a:off x="2142720" y="2428920"/>
              <a:ext cx="1892880" cy="257256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63" name="Egyenes összekötő nyíllal 30"/>
            <p:cNvCxnSpPr/>
            <p:nvPr/>
          </p:nvCxnSpPr>
          <p:spPr>
            <a:xfrm flipH="1">
              <a:off x="2499840" y="2428920"/>
              <a:ext cx="1535760" cy="300096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64" name="Egyenes összekötő nyíllal 39"/>
            <p:cNvCxnSpPr/>
            <p:nvPr/>
          </p:nvCxnSpPr>
          <p:spPr>
            <a:xfrm>
              <a:off x="4034520" y="2428920"/>
              <a:ext cx="1537560" cy="292968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65" name="Egyenes összekötő nyíllal 47"/>
            <p:cNvCxnSpPr/>
            <p:nvPr/>
          </p:nvCxnSpPr>
          <p:spPr>
            <a:xfrm>
              <a:off x="4034520" y="2428560"/>
              <a:ext cx="1608840" cy="25009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66" name="Egyenes összekötő nyíllal 50"/>
            <p:cNvCxnSpPr>
              <a:endCxn id="53" idx="1"/>
            </p:cNvCxnSpPr>
            <p:nvPr/>
          </p:nvCxnSpPr>
          <p:spPr>
            <a:xfrm>
              <a:off x="4034520" y="2428920"/>
              <a:ext cx="1608840" cy="20851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67" name="Egyenes összekötő nyíllal 61"/>
            <p:cNvCxnSpPr/>
            <p:nvPr/>
          </p:nvCxnSpPr>
          <p:spPr>
            <a:xfrm>
              <a:off x="4034520" y="2428920"/>
              <a:ext cx="1608840" cy="164376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68" name="Egyenes összekötő nyíllal 64"/>
            <p:cNvCxnSpPr/>
            <p:nvPr/>
          </p:nvCxnSpPr>
          <p:spPr>
            <a:xfrm>
              <a:off x="4034520" y="2428560"/>
              <a:ext cx="1608840" cy="121500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69" name="Egyenes összekötő nyíllal 67"/>
            <p:cNvCxnSpPr/>
            <p:nvPr/>
          </p:nvCxnSpPr>
          <p:spPr>
            <a:xfrm>
              <a:off x="4034520" y="2428920"/>
              <a:ext cx="1608840" cy="78624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arrow" w="med"/>
            </a:ln>
          </p:spPr>
        </p:cxnSp>
      </p:grpSp>
    </p:spTree>
  </p:cSld>
  <p:transition advTm="10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ffff"/>
                </a:solidFill>
                <a:latin typeface="Calibri"/>
              </a:rPr>
              <a:t>Szakmai kitüntetések alapítása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Tartalom helye 6" descr="dijak.jpg"/>
          <p:cNvPicPr/>
          <p:nvPr/>
        </p:nvPicPr>
        <p:blipFill>
          <a:blip r:embed="rId1"/>
          <a:stretch/>
        </p:blipFill>
        <p:spPr>
          <a:xfrm>
            <a:off x="428760" y="1285920"/>
            <a:ext cx="8258040" cy="2903400"/>
          </a:xfrm>
          <a:prstGeom prst="rect">
            <a:avLst/>
          </a:prstGeom>
          <a:ln w="0">
            <a:noFill/>
          </a:ln>
        </p:spPr>
      </p:pic>
      <p:sp>
        <p:nvSpPr>
          <p:cNvPr id="72" name="Élőláb hely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Digitális jövő kiállítás és szakmai fó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Dia számának hely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7868-31E8-4817-8549-B26E0F2059ED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églalap 7"/>
          <p:cNvSpPr/>
          <p:nvPr/>
        </p:nvSpPr>
        <p:spPr>
          <a:xfrm>
            <a:off x="1079280" y="421488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Calibri"/>
              </a:rPr>
              <a:t>Neumann-dí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églalap 8"/>
          <p:cNvSpPr/>
          <p:nvPr/>
        </p:nvSpPr>
        <p:spPr>
          <a:xfrm>
            <a:off x="3076560" y="4214880"/>
            <a:ext cx="11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Calibri"/>
              </a:rPr>
              <a:t>Kalmár-dí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églalap 9"/>
          <p:cNvSpPr/>
          <p:nvPr/>
        </p:nvSpPr>
        <p:spPr>
          <a:xfrm>
            <a:off x="4565880" y="421488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Calibri"/>
              </a:rPr>
              <a:t>Tarján-emléké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églalap 10"/>
          <p:cNvSpPr/>
          <p:nvPr/>
        </p:nvSpPr>
        <p:spPr>
          <a:xfrm>
            <a:off x="6575760" y="4214880"/>
            <a:ext cx="18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Calibri"/>
              </a:rPr>
              <a:t>Kemény János-dí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Csoportba foglalás 20"/>
          <p:cNvGrpSpPr/>
          <p:nvPr/>
        </p:nvGrpSpPr>
        <p:grpSpPr>
          <a:xfrm>
            <a:off x="1143000" y="4680000"/>
            <a:ext cx="6961320" cy="1620720"/>
            <a:chOff x="1143000" y="4680000"/>
            <a:chExt cx="6961320" cy="1620720"/>
          </a:xfrm>
        </p:grpSpPr>
        <p:pic>
          <p:nvPicPr>
            <p:cNvPr id="79" name="Kép 16" descr="tarjan_rezso.jpg"/>
            <p:cNvPicPr/>
            <p:nvPr/>
          </p:nvPicPr>
          <p:blipFill>
            <a:blip r:embed="rId2"/>
            <a:stretch/>
          </p:blipFill>
          <p:spPr>
            <a:xfrm>
              <a:off x="4968360" y="4680000"/>
              <a:ext cx="1190880" cy="1620720"/>
            </a:xfrm>
            <a:prstGeom prst="rect">
              <a:avLst/>
            </a:prstGeom>
            <a:ln w="19080">
              <a:solidFill>
                <a:srgbClr val="ffffff"/>
              </a:solidFill>
              <a:miter/>
            </a:ln>
          </p:spPr>
        </p:pic>
        <p:pic>
          <p:nvPicPr>
            <p:cNvPr id="80" name="Kép 17" descr="kalmar_laszlo.jpg"/>
            <p:cNvPicPr/>
            <p:nvPr/>
          </p:nvPicPr>
          <p:blipFill>
            <a:blip r:embed="rId3"/>
            <a:stretch/>
          </p:blipFill>
          <p:spPr>
            <a:xfrm>
              <a:off x="2928960" y="4680000"/>
              <a:ext cx="1333440" cy="1620720"/>
            </a:xfrm>
            <a:prstGeom prst="rect">
              <a:avLst/>
            </a:prstGeom>
            <a:ln w="19080">
              <a:solidFill>
                <a:srgbClr val="ffffff"/>
              </a:solidFill>
              <a:miter/>
            </a:ln>
          </p:spPr>
        </p:pic>
        <p:pic>
          <p:nvPicPr>
            <p:cNvPr id="81" name="Kép 18" descr="kemeny_janos.jpg"/>
            <p:cNvPicPr/>
            <p:nvPr/>
          </p:nvPicPr>
          <p:blipFill>
            <a:blip r:embed="rId4"/>
            <a:stretch/>
          </p:blipFill>
          <p:spPr>
            <a:xfrm>
              <a:off x="6715800" y="4680000"/>
              <a:ext cx="1388520" cy="1620720"/>
            </a:xfrm>
            <a:prstGeom prst="rect">
              <a:avLst/>
            </a:prstGeom>
            <a:ln w="19080">
              <a:solidFill>
                <a:srgbClr val="ffffff"/>
              </a:solidFill>
              <a:miter/>
            </a:ln>
          </p:spPr>
        </p:pic>
        <p:pic>
          <p:nvPicPr>
            <p:cNvPr id="82" name="Kép 19" descr="neumann.gif"/>
            <p:cNvPicPr/>
            <p:nvPr/>
          </p:nvPicPr>
          <p:blipFill>
            <a:blip r:embed="rId5"/>
            <a:stretch/>
          </p:blipFill>
          <p:spPr>
            <a:xfrm>
              <a:off x="1143000" y="4680000"/>
              <a:ext cx="1236600" cy="1620720"/>
            </a:xfrm>
            <a:prstGeom prst="rect">
              <a:avLst/>
            </a:prstGeom>
            <a:ln w="19080">
              <a:solidFill>
                <a:srgbClr val="ffffff"/>
              </a:solidFill>
              <a:miter/>
            </a:ln>
          </p:spPr>
        </p:pic>
      </p:grpSp>
    </p:spTree>
  </p:cSld>
  <p:transition advTm="10000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ffff"/>
                </a:solidFill>
                <a:latin typeface="Calibri"/>
              </a:rPr>
              <a:t>A Neumann Társaság 40 éve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Tartalom helye 5" descr="vezetok.png"/>
          <p:cNvPicPr/>
          <p:nvPr/>
        </p:nvPicPr>
        <p:blipFill>
          <a:blip r:embed="rId1"/>
          <a:stretch/>
        </p:blipFill>
        <p:spPr>
          <a:xfrm>
            <a:off x="1785960" y="1857240"/>
            <a:ext cx="5514840" cy="4525920"/>
          </a:xfrm>
          <a:prstGeom prst="rect">
            <a:avLst/>
          </a:prstGeom>
          <a:ln w="0">
            <a:noFill/>
          </a:ln>
        </p:spPr>
      </p:pic>
      <p:sp>
        <p:nvSpPr>
          <p:cNvPr id="85" name="Élőláb hely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Digitális jövő kiállítás és szakmai fó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Dia számának hely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998C-34AF-4F66-8ECF-1A0AE69DC643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églalap 6"/>
          <p:cNvSpPr/>
          <p:nvPr/>
        </p:nvSpPr>
        <p:spPr>
          <a:xfrm>
            <a:off x="500040" y="121428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hu-HU" sz="1800" spc="-1" strike="noStrike">
                <a:solidFill>
                  <a:srgbClr val="ffffff"/>
                </a:solidFill>
                <a:latin typeface="Calibri"/>
              </a:rPr>
              <a:t>Megőrizni a múlt értékeit, alkalmazkodni a jelenhez,  befolyásolni a jövőt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3:23:37Z</dcterms:created>
  <dc:creator>abonyita</dc:creator>
  <dc:description/>
  <dc:language>en-US</dc:language>
  <cp:lastModifiedBy>Abonyita</cp:lastModifiedBy>
  <dcterms:modified xsi:type="dcterms:W3CDTF">2009-03-01T13:47:50Z</dcterms:modified>
  <cp:revision>27</cp:revision>
  <dc:subject/>
  <dc:title>1. dia</dc:title>
</cp:coreProperties>
</file>